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D3744-F407-41DE-9159-27CE5446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1881-C487-4E77-8992-0CBE8F2F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14BD6-4238-4E81-9354-F6EC3CB8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6DDA-4E12-4579-8C73-3B081F3B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1B67-4577-43DC-BC87-0C2FB2F0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797F6-F56C-4752-A4FD-78F9E478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BF28-47FF-4D65-9951-2C6B2115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26AF-189E-498B-914C-FA850FDF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FCB9-5902-4E04-A16C-ACB22E11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56AF-CD2B-40C6-B779-F717573D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7D23-671B-4554-B6AA-7E5B6600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E88AE-131B-4508-81EB-68E5E3327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6521-4BDB-42FC-9422-62AA72EA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891D-E3B8-4903-A546-1EFC186E1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3FBC-ABC1-4F6B-8E13-84012E47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26B9A-7DDD-4B8C-8484-A72737CA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96B2-3A30-4191-8735-53E691D86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2FE0-BDF4-473F-8E3B-8E46E8CD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D0569-88E8-4664-9F99-FDB82745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0DCF-DCEA-4406-B51A-20B99A68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8684-DD03-435E-997B-F40F6DDB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B3822-2173-48A8-A13D-E5494D1E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9C2AB-6BDF-4E6F-BAE3-EF616B91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B7AB0-C485-4F4C-85D9-820727AB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3DD8-0BAC-4B2F-82B6-EEA14430CA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ill Sans MT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0218-4F0B-4EDA-B64C-627A181AC6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184464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Calibri"/>
              </a:rPr>
              <a:t>OPERATIVIDAD DE LOS PLANES MUNICIPALES DE EMERGENCIA NUCLEAR: POSIBLES LINEAS DE MEJO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9640" y="3645000"/>
            <a:ext cx="84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Gill Sans MT"/>
              </a:rPr>
              <a:t>JORNADA TÉCNICA SOBRE PLANES MUNICIPALES DE EMERGENCIA NUCLEAR PARA AUTORIDADES MUNICIPALES DE ZONA I DE LOS PEN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02" name="Picture 156" descr="Imagen anagrama map"/>
          <p:cNvPicPr/>
          <p:nvPr/>
        </p:nvPicPr>
        <p:blipFill>
          <a:blip r:embed="rId1"/>
          <a:stretch/>
        </p:blipFill>
        <p:spPr>
          <a:xfrm>
            <a:off x="179280" y="260280"/>
            <a:ext cx="2667240" cy="460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escudo"/>
          <p:cNvPicPr/>
          <p:nvPr/>
        </p:nvPicPr>
        <p:blipFill>
          <a:blip r:embed="rId2"/>
          <a:stretch/>
        </p:blipFill>
        <p:spPr>
          <a:xfrm>
            <a:off x="8101080" y="189000"/>
            <a:ext cx="477720" cy="691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6454080" y="609300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19 de octubre de 2015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3276720" y="3429000"/>
            <a:ext cx="2519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7 CuadroTexto"/>
          <p:cNvSpPr/>
          <p:nvPr/>
        </p:nvSpPr>
        <p:spPr>
          <a:xfrm>
            <a:off x="971640" y="4653000"/>
            <a:ext cx="729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Carlos Dueñas Molina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ubdirector General de Prevención y Planificación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Dirección General de Protección Civil y Emergencias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inisterio del Interior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2. DISTRIBUCIÓN DE COMPRIMIDOS DE YODURO POTÁSIC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1197000"/>
            <a:ext cx="9299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istribución previa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 las dosis necesarias de yoduro potásico a l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oblación residente en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zona I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mediante las oficinas d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armacia local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tervención de los médicos de famili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a los centros educativos, a lo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entros de salud y hospitales, y a otros lugares de pública concurrenc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ara los que la predistribución se considere adecuad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form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irecta a 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obl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acerca de la profilaxis radiológic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n yoduro potásico, con participación de los farmacéuticos locales,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édicos de familia y otro personal sanitario, e información general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ediante programas periódicos, participación social y apoyo de medio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 comunicación  local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clusión en cada PPE de un Programa sobre Profilaxis Radiológic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3. ACTIVIDADES DE APOYO AL CONFINAMIENT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80720" y="1125360"/>
            <a:ext cx="9049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clusión en el PEN de un Estudio de Vulnerabilidad  y Actuacion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 Emergencia en Redes de Suministro de Agua a Poblacion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formación previa a la población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(disponibilidad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ceptores de Radio y TV para información e instrucciones)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riterios para la toma de decisiones sobre confinamiento de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población en situaciones de emergencia: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Como medida previa para ordenar la evacu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En aquellos accidentes con tiempo estimado de emisión no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superior a diez hora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- En general el confinamiento no se prolongará por un tiemp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alibri"/>
              </a:rPr>
              <a:t>superior a 24 hora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4. ACTIVIDADES DE APOYO A LA EVACUA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126828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ada PEN incluirá u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lan de Evacuación de la Zona I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mediante el cual se asegure, al menos, la evacuación de los centros de enseñanza, centros hospitalarios, residencias de personas de movilidad reducida y de todas aquellas personas que no dispongan de medios propios para la evacu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a actividad de apoyo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a la evacuación por parte cad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organización municip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quedará recogida en el correspondiente Plan de Evacuación, y estará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 acuerdo con sus  posibilidades y capacidad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formación a la población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 de la población en relación con el planeamiento de la medid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FORZAMIENTO DE LA CANTIDAD, CALIDAD Y ORGANIZACIÓN DE LOS RECURSOS HUMANO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0880" y="1052640"/>
            <a:ext cx="91432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1. Incremento de la cantidad de personal encuadrado en la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organizaciones municipale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2. Formación del personal de las organizaciones municipales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86064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3. Mejora de la organización de los recursos humanos adscritos al PAMEN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. INCREMENTO DE LA CANTIDAD DE PERSONAL ENCUADRAD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N LAS ORGANIZACIONES MUNICIPAL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53000" y="1011240"/>
            <a:ext cx="887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uantificar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la dotación de recursos humanos necesarios para cad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una de las tareas asignadas al PAMEN, mediante la realización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imulacro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en las condiciones más “reales” posibl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omentar la participación (colaboración) social en el refuerzo de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organización del PAMEN, mediante la creación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 Agrupacion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Municipales de Voluntarios de Protección Civil (para el apoyo 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os PAMEN) u otras formas asociativas de participación social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2. FORMACIÓN DEL PERSONAL DE LAS ORGANIZACIONES MUNICIPAL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-39240" y="981000"/>
            <a:ext cx="92545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valuar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anualmente las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necesidad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formativas de cada organiza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municipal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as necesidades formativas de cada organización municipal s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Incorporará al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grama Anual de Formación de cada PE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elaborad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e forma participativ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gistro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l Personal adscrito al Plan Exterior correspondiente, en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ada Subdelegación del Gobierno, que haya realizado actividad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ormativas en el marco del Programa de Formación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, incluyendo lo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ctuantes municipal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reseñando las actividades formativas en qu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ubieran participado y fecha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Determinadas actividades formativas han de ser obligatoria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(particularmente las que tienen que ver con la propia seguridad)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3. MEJORA DE LA ORGANIZACIÓN DE LOS RECURSOS HUMANO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0" y="85572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visar la organiz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 cada PAMEN de acuerdo con la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ctividades que está previsto desarrollar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segurar la rápid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incorporación, en caso de emergenci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, de todos los miembros del comité ejecutivo del PAME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Hacer efectiva en todos los casos, la disposición del PLABEN según la cual “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l personal adscrito al PAMEN será previamente designado y acreditado por su director (el alcalde)”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Prever, en la organización de cada PAMEN, las figuras de un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sponsable de “participación social” y un responsable de formación del personal adscrito a la organiz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DECUACIÓN DE LOS RECURSOS MATERIALE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-144360" y="1214280"/>
            <a:ext cx="9394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decuar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los procedimientos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del sistema  de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mantenimiento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de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gestión centralizada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para una repuesta más ágil y eficaz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Fundamentar las solicitudes de subvención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de  recursos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ateriales para cada PAMEN exclusivamente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en su utilidad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para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la puesta en práctica de las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actividades previstas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en el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mismo (incluidas las de preparación) , dentro de las norma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Calibri"/>
              </a:rPr>
              <a:t>a que obliga la propia naturaleza de la subvención.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Reconsiderar la provisión de determinados recursos para su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    </a:t>
            </a: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provisión por el nivel central (ECD’s portátiles, por ejemplo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CEDIMIENTOS DE ELABORACIÓN, APROBACIÓN, DIFUSIÓN Y UTILIZACIÓN DEL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-1800" y="855720"/>
            <a:ext cx="92289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articipación social en la elaboración de los PAMEN , mediante el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establecimiento, al menos, de un proceso de información pública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evio a su aprobación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(Ley 17/2015 del sistema nacional de protec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vil)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Inclusión en el”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ograma anual de información preventiva a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oblación” del correspondiente PEN,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las medidas adecuadas para l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ifusión pública del plan una vez esté aprobado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Puesta a prueba del PAMEN, mediante el establecimiento de u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ograma de ejercicios y simulacros”,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efinido y puesto en práctic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 participación social, dentro del Programa anual que con el mism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objetivo se establezca en el PEN correspondiente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Informatización del PAMEN para facilitar su operatividad en caso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Emergenci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Acentuar el papel de las organizaciones municipales en las actuaciones de preparación e implantación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fundamentalmente en las dirigidas a facilitar la participación de la población (programas de información a la población y realización de ejercicios y simulacros) y establecer cauces apropiados a dicha finalidad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Simplificar las actividades operativas en situaciones de emergenci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ahora responsabilidad de las organizaciones municipales,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mediante cambios en el desempeño de las mismas y/o reforzando la organización y recursos procedentes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del nivel central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(UME, principalmente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Facilitar el desempeño del apoyo a la profilaxis radiológic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mediante la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predistribución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de comprimidos de yoduro potásico a través de las oficinas de farmacia locales y la difusión de la correspondiente información sanitari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forzar el papel de apoyo de las organizaciones municipales a los planes de </a:t>
            </a: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autoprotección de los centros de enseñanza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, teniendo en cuenta la mayor vulnerabilidad de niños y jóven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Considerar el papel de las organizaciones municipales  en la puesta en práctica de medidas dirigidas a facilitar la normalización de la vida socioeconómica de las áreas afectadas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27280" y="189000"/>
            <a:ext cx="54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LINEAS DE MEJORA (SÍNTESIS)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-615960" y="1125360"/>
            <a:ext cx="102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ill Sans MT"/>
              </a:rPr>
              <a:t>(Plan Básico de Emergencia Nuclear  aprobado por el Real Decreto 1546/2004, de 25 de junio)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95280" y="160488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Gill Sans MT"/>
              </a:rPr>
              <a:t>Funciones de los PAMEN en situaciones de emergenci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50920" y="2276640"/>
            <a:ext cx="8893080" cy="424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lertar, informar y dar avisos a la pobl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olaborar con los servicios de los grupos operativos en la aplicación de las medidas de protección a la població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cilitar el confinamiento y el abastecimiento a la población confinad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cilitar la evacuación de la población, en caso necesario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ransmitir, recibir y registrar las comunicaciones durante la emergenci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8360" y="18900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CTUACIONES DE LAS ORGANIZACIONES DE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escudo"/>
          <p:cNvPicPr/>
          <p:nvPr/>
        </p:nvPicPr>
        <p:blipFill>
          <a:blip r:embed="rId1"/>
          <a:stretch/>
        </p:blipFill>
        <p:spPr>
          <a:xfrm>
            <a:off x="3564000" y="1916280"/>
            <a:ext cx="172080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SPONSABILIDADES DEL DIRECTOR DEL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50920" y="907920"/>
            <a:ext cx="8893080" cy="72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irigir y coordinar el PAM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ctivar el PAMEN y declarar la situación que corresponda, de acuerdo con la órdenes del director del P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plicar las órdenes del director del PEN, en contacto con el jefe del grupo de coordinación y asistencia técnica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segurar el correcto funcionamiento del CECOPAL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Mantener permanentemente informada a la población y sobre el comportamiento a adoptar, de acuerdo con las directrices del director del P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Dar servicio de información a familiares de afectados, en coordinación con el gabinete de información y comunicación del P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acilitar la evacuación, teniendo en cuenta las singularidades de los centros de pública concurrencia como colegios, centros sanitarios etc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Facilitar el transporte, albergue y abastecimiento a la población que lo precise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Solicitar apoyo a la dirección del PEN, en caso de que se sobrepasen las capacidades del PAMEN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8920" y="105264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60240" indent="-6602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Calibri"/>
              </a:rPr>
              <a:t>En situaciones de normalida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alibri"/>
              </a:rPr>
              <a:t>(actividades de preparación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) Facilitar la puesta en práctica d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gramas de información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previa, de carácter preventivo a la pobl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b) Procurar la adecuad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ormación del person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integrado en la organización del PAME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)  Realizar ejercicios y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simulacros periódico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que permitan mejorar la instrucción del personal adscrito a la organización del PAMEN, comprobar la idoneidad y el estado funcional de los medios a disposición para emergencias,  verificar el grado de operatividad del plan  y derivar de todo ello las medidas de mejor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d)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Fomentar y facilitar l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rticipación ciudadan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n las actividades anteriormente enunciadas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660240" indent="-6602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ACTUACIONES DE LAS ORGANIZACIONES DE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1052640"/>
            <a:ext cx="89647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os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MEN son parte integrante de la organización gener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 la respuesta ante emergencias derivadas de accidentes en centrales nucleares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rticipación ciudadana es un factor fundamental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condicionante de la eficacia y eficiencia de las actividades previstas en los PAMEN 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ONSIDERACIONES BÁSICA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492360" y="2565360"/>
            <a:ext cx="1454400" cy="698400"/>
          </a:xfrm>
          <a:prstGeom prst="ellipse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NCRA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564000" y="3141720"/>
            <a:ext cx="1454040" cy="698400"/>
          </a:xfrm>
          <a:prstGeom prst="ellipse">
            <a:avLst/>
          </a:prstGeom>
          <a:solidFill>
            <a:srgbClr val="0099cc">
              <a:alpha val="42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3564000" y="3716280"/>
            <a:ext cx="1417680" cy="698400"/>
          </a:xfrm>
          <a:prstGeom prst="ellipse">
            <a:avLst/>
          </a:prstGeom>
          <a:solidFill>
            <a:srgbClr val="0099cc">
              <a:alpha val="49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Oval 4"/>
          <p:cNvSpPr/>
          <p:nvPr/>
        </p:nvSpPr>
        <p:spPr>
          <a:xfrm>
            <a:off x="1763640" y="3213000"/>
            <a:ext cx="698400" cy="698760"/>
          </a:xfrm>
          <a:prstGeom prst="ellipse">
            <a:avLst/>
          </a:prstGeom>
          <a:solidFill>
            <a:srgbClr val="ff6600">
              <a:alpha val="27000"/>
            </a:srgbClr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EI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2484360" y="3500280"/>
            <a:ext cx="1116000" cy="73080"/>
          </a:xfrm>
          <a:prstGeom prst="leftRightArrow">
            <a:avLst>
              <a:gd name="adj1" fmla="val 50000"/>
              <a:gd name="adj2" fmla="val 304004"/>
            </a:avLst>
          </a:prstGeom>
          <a:solidFill>
            <a:srgbClr val="e5e5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1619280" y="2421000"/>
            <a:ext cx="4608360" cy="2449440"/>
          </a:xfrm>
          <a:prstGeom prst="ellipse">
            <a:avLst/>
          </a:prstGeom>
          <a:solidFill>
            <a:srgbClr val="0099cc">
              <a:alpha val="22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EQUILIBRIO ENTRE ACTIVIDADES Y MEDIOS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2771640" y="3068640"/>
            <a:ext cx="432000" cy="20876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708360" y="2276640"/>
            <a:ext cx="432000" cy="208728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6012000" y="3068640"/>
            <a:ext cx="431640" cy="20876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6877080" y="2133720"/>
            <a:ext cx="431640" cy="208728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AutoShape 8"/>
          <p:cNvSpPr/>
          <p:nvPr/>
        </p:nvSpPr>
        <p:spPr>
          <a:xfrm>
            <a:off x="2771640" y="2133720"/>
            <a:ext cx="4537080" cy="107928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2771640" y="198900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2771640" y="184464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AutoShape 11"/>
          <p:cNvSpPr/>
          <p:nvPr/>
        </p:nvSpPr>
        <p:spPr>
          <a:xfrm>
            <a:off x="2771640" y="1700280"/>
            <a:ext cx="4537080" cy="107928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AutoShape 12"/>
          <p:cNvSpPr/>
          <p:nvPr/>
        </p:nvSpPr>
        <p:spPr>
          <a:xfrm>
            <a:off x="2771640" y="155736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2771640" y="1413000"/>
            <a:ext cx="4537080" cy="107928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2771640" y="1268280"/>
            <a:ext cx="4537080" cy="1079640"/>
          </a:xfrm>
          <a:prstGeom prst="cube">
            <a:avLst>
              <a:gd name="adj" fmla="val 8823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3999600" y="141300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ACTIVIDADES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443640" y="422100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RECURSOS HUMANO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5364360" y="528336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RECURSOS MATERIALE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203280" y="4292640"/>
            <a:ext cx="186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ORGANIZACIÓ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1763280" y="5300640"/>
            <a:ext cx="26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alibri"/>
              </a:rPr>
              <a:t>PARTICIPACIÓN SOCIA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0" y="1052640"/>
            <a:ext cx="896472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visión de las actuaciones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 desarrollar por las organizaciones de los PAMEN, en caso de emergencia y en situaciones de normalidad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decuación de 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cantidad, calidad y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organización de los recursos humanos adscritos al PAMEN.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Adecuación de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cursos materiale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Estímulo  de la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articipación social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Reconsideración de los </a:t>
            </a: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procedimientos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de elaboración, aprobación, difusión y utilización del PAMEN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LINEAS DE MEJORA DE LA OPERATIVIDAD DE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170028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ifusión de alertas y avisos a la población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Distribución de comprimidos de yoduro potásico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ctividades de apoyo al confinamiento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Calibri"/>
              </a:rPr>
              <a:t>Actividades de apoyo a la evacuación.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REVISIÓN DE LAS ACTIVIDADES A DESARROLLAR POR LOS PAME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Line 3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1. DIFUSIÓN DE ALERTAS Y AVISOS A LA POBLACIÓN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836640"/>
            <a:ext cx="9070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seguir la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cobertura total de la zona I,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ediante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otación de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sirenas a los núcleos de población no cubiertos por megafonía, lo que implica: un código de señales acústicas de alerta, información a la población y la realización de simulacros con la frecuencia necesaria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seguir una absoluta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inmediatez en la alerta a la zona I A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ediante la autorización de accionamiento del sistema por el director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el PEI y la transmisión de mensajes vía móvil a los  responsables 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municipales. (Ley 17/2015,del sistema nacional de protección civil)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Conseguir la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articipación de medios de comunicación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(radio y TV), para la difusión de mensales emenados de la dirección del PPE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Desarrollar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programas de información previa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, de carácter preventivo, </a:t>
            </a:r>
            <a:r>
              <a:rPr b="1" lang="es-ES" sz="2400" spc="-1" strike="noStrike">
                <a:solidFill>
                  <a:srgbClr val="ffff00"/>
                </a:solidFill>
                <a:latin typeface="Calibri"/>
              </a:rPr>
              <a:t>a la población </a:t>
            </a:r>
            <a:r>
              <a:rPr b="1" lang="es-ES" sz="2400" spc="-1" strike="noStrike">
                <a:solidFill>
                  <a:srgbClr val="ffffff"/>
                </a:solidFill>
                <a:latin typeface="Calibri"/>
              </a:rPr>
              <a:t>acerca de las medidas a adoptar en cada caso.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6:23:55Z</dcterms:created>
  <dc:creator>DGPCyE</dc:creator>
  <dc:description/>
  <dc:language>en-US</dc:language>
  <cp:lastModifiedBy>DGPCyE</cp:lastModifiedBy>
  <dcterms:modified xsi:type="dcterms:W3CDTF">2015-10-18T16:50:45Z</dcterms:modified>
  <cp:revision>38</cp:revision>
  <dc:subject/>
  <dc:title>Diapositiva 1</dc:title>
</cp:coreProperties>
</file>