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2359-2BC4-458A-A37A-59D298EFAA9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E8A6-5C0A-4E97-90CD-E0F75344FF0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047-0445-4201-8A85-551CF3553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576-AB07-49A9-8848-729A818A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930-9741-4003-A33B-E98471F6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DF74-941F-4ABB-81FE-65D99D7E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B687-D7FF-4AF8-B934-0551228B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6C2B-A258-4FCD-9E19-B66D1A2A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63DE-C15B-4D97-AA4F-66B1C143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42EA-36FE-4AF7-9708-91A7ECE8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CB61-3715-485A-A3E5-5C61CE76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C986-EA79-4478-B42B-98789FFB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E490-704A-4D54-B12C-88263F07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C5E-48EC-415D-8C43-7EF36550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D99E-5BBB-41B8-B48C-88706AF6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F3A0-E2A9-43DB-B03B-065E581A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4DF3-38FC-4C6D-B991-0A387730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DF13-E81C-43C7-A224-35935CE4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4E78-E858-4522-BA4D-C2BAFFCDE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8CADD-AC21-4798-B6DD-AB2D0617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7B776B-B707-42F8-A6DC-A4EC41C1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93408-AF51-4700-9F30-5875371C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A557BC-3541-4F0B-914D-7B730087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DBCCD9-8887-4657-A4CD-FF3E9253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B13-0E43-43DF-8E8E-75D36F39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64FA7-1056-40FF-83D4-E2C5F498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B3331-A85C-4B78-B625-EFAC18D9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DDD3C-8ACF-4442-B2F0-7B60F0FD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68413-C038-47E5-87C8-AD8331B4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78800-660A-4AEE-BD99-FDA6CBD1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990E2-D810-42D0-993B-9817F552C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91FED-F87E-4860-8A06-27D9089F2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AEA9F-65E5-4621-A80F-21F21DE6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D76A0-F2AE-4B6C-BAC3-85B0AA1F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39662-5163-40A3-8374-4DB8932D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22D-1681-4510-8682-4F76E072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1F278-AF2D-45BE-94E9-E2F4908F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A4FF9-23EF-45A0-B531-FEA6739A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6461-4B31-4EDC-BCA4-5E31F28C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AAA79-2629-4289-AA33-166E0668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461D1-47C4-45D0-BC8C-A72AE066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0B626-2621-4908-A7E4-8426E18B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1F60-68D4-4ADD-BAA3-2CB1DB2D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FE9BA-435D-446D-B70D-5B62C139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48722-47CD-4F10-8E74-941CB5A04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2D8DC-3562-41D1-AE9E-20E6471D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8C6-BE24-422A-8589-5A4DAEF2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122931-2548-4C45-8268-7DD6F5FB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157C0-96DA-443B-958F-E64B4F94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E48C0-7092-44D4-A11A-F4BDA864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2F3FF-7AF3-47A4-8E3E-30D27438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8CEF6-26FC-4001-8CEB-1063C491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D0E4F0-7F54-43F5-A6C5-22B967F6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CC6B01-8B74-43DC-8B80-A7139075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4DFF6A-F148-415D-ABA6-BBD6B713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BC7DD-7F3B-4D27-BCF9-30BBB123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058B3A-D4E0-4CD1-96C0-BAF85103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F162-997E-4E94-B89E-0072FFC14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340D40-7786-4E6B-8EE2-1A33D580B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C8164D-CEF4-4B85-95F3-F4368ADD9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E93F9F-643D-47A6-B8CF-E1AD3115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FF7333-E5C9-40D8-A596-A3EEB93A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73FAB-9981-4ED3-A900-6002D482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110A75-8E78-4361-8A6B-78B4BE26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EB115C-2AD1-4432-968C-9E0B2F64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EDEB38-E99D-46C3-AF01-EBB0B6E2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D77788-1584-4318-B976-4CF82B8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1B6CC-AD67-4857-9219-7806BF76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1B3-0EC6-40B7-A637-C17DC980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45F789-883B-4A9D-95F5-11FDD741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2CC6C5-B485-46CC-823B-8C68A7512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A2AA2-4605-4D95-81FF-7ED84B344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7C4F0D-726F-4DB5-83A8-A7FDF67D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632459-3020-4277-8231-24820DB4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36F5AD-7BC5-4405-B8E5-3BAAA513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F0568F-8086-47F2-83F0-5E70D77C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55D64-532C-4C16-B91F-3A07DB33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87679C-F3AE-42CC-BD24-267B2921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D1EA22-F8B3-4DA4-976B-8F4A213E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640-DDDC-49B4-B2C2-F2378171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2EBC72-A5D8-42D3-9712-8E7A8C4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3290E8-B3B1-4A2E-846F-EE1B21F6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B2456-F47C-446A-BA51-526265AE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D2BEA0-A703-483B-8C0B-221F8888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CF437-9D96-465B-A84A-0610D854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C45-8CC4-4B27-A480-29E70347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F5B0-11B6-429E-8831-01DD44F1F324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50FF-9EC2-4FD2-A064-A1FC82061BF9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DE08-E587-49BC-B55D-1FBFD8EA8176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02E7-B7E3-4E29-968B-4E22DABD8EA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EF22-0EBF-4F33-92A1-ADF23509198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562D-13C2-4035-B437-C5B9C59647D5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5B76-BB6D-4B0F-B6CD-46691F95F25D}" type="slidenum">
              <a:rPr b="1" lang="es-E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JORNADA TÉCNICA </a:t>
            </a:r>
            <a:br>
              <a:rPr sz="2700"/>
            </a:b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SOBRE PLANES MUNICIPALES DE EMERGENCIA NUCLEAR PARA AUTORIDADES MUNICIPALES DE ZONA I DE LOS PEN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563640" y="5732640"/>
            <a:ext cx="5824440" cy="74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575f6d"/>
                </a:solidFill>
                <a:latin typeface="Century Schoolbook"/>
              </a:rPr>
              <a:t>ENPC, 19 DE OCTUBRE DE 2015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TENID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Organización: funciones y responsabilidad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atos que condicionan la operativida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Núcleos de població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Población afectad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Grupos vulnerables: escolares, personas con movilidad reducida…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cedimientos de actuación y colaboración con otros servicios operativos y grupos operativ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mplantació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6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ORGANIZACIÓN</a:t>
            </a: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3 Marcador de contenido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499160" cy="5602320"/>
          </a:xfrm>
          <a:prstGeom prst="rect">
            <a:avLst/>
          </a:prstGeom>
          <a:ln w="0">
            <a:noFill/>
          </a:ln>
        </p:spPr>
      </p:pic>
      <p:sp>
        <p:nvSpPr>
          <p:cNvPr id="400" name="4 Rectángulo"/>
          <p:cNvSpPr/>
          <p:nvPr/>
        </p:nvSpPr>
        <p:spPr>
          <a:xfrm>
            <a:off x="3059280" y="2708280"/>
            <a:ext cx="2304720" cy="10810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ÓRGANO EJEC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Secre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Concejal de protección Civ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Schoolbook"/>
              </a:rPr>
              <a:t>Jefes de los servic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4 Imagen" descr="logo_gobe_mir_sub_dgpce.gif"/>
          <p:cNvPicPr/>
          <p:nvPr/>
        </p:nvPicPr>
        <p:blipFill>
          <a:blip r:embed="rId2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escudo"/>
          <p:cNvPicPr/>
          <p:nvPr/>
        </p:nvPicPr>
        <p:blipFill>
          <a:blip r:embed="rId3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912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R</a:t>
            </a: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ESPONSABILIDAD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94920" y="1557000"/>
            <a:ext cx="7467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e8637"/>
              </a:buClr>
              <a:buSzPct val="70000"/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Dirigir y coordinar el PAM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Activar el PAMEN y declarar la situación que corresponda, de acuerdo con la órdenes del director del P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Aplicar las órdenes del director del PEN, en contacto con el jefe del grupo de coordinación y asistencia técnica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Asegurar el correcto funcionamiento del CECOPAL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Mantener permanentemente informada a la población y sobre el comportamiento a adoptar, de acuerdo con las directrices del director del P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Dar servicio de información a familiares de afectados, en coordinación con el gabinete de información y comunicación del P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Facilitar la evacuación, teniendo en cuenta las singularidades de los centros de pública concurrencia como colegios, centros sanitarios etc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Facilitar el transporte, albergue y abastecimiento a la población que lo precis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Schoolbook"/>
              </a:rPr>
              <a:t>Solicitar apoyo a la dirección del PEN, en caso de que se sobrepasen las capacidades del PAME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4 CuadroTexto"/>
          <p:cNvSpPr/>
          <p:nvPr/>
        </p:nvSpPr>
        <p:spPr>
          <a:xfrm>
            <a:off x="1187280" y="1268280"/>
            <a:ext cx="648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 CuadroTexto"/>
          <p:cNvSpPr/>
          <p:nvPr/>
        </p:nvSpPr>
        <p:spPr>
          <a:xfrm>
            <a:off x="684360" y="119700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Schoolbook"/>
              </a:rPr>
              <a:t>Director del PA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95280" y="2349360"/>
            <a:ext cx="8362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Órgano ejecutiv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sesorar al Director del Plan Municipal, en los distintos aspectos relacionados con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8360" y="1412640"/>
            <a:ext cx="8424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ervicio de Informa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segurar las comunicaciones del CECOPAL con el CECO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Actuar como canal de información con los responsables de los diversos servici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2990880" cy="28796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29480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94920" y="1773360"/>
            <a:ext cx="7931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Servicio de Avisos a la Población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ifundir los avisos y comunicados a la población, en relación a las medidas a adoptar que hayan sido ordenadas por el Director del Plan  Municipal, como consecuencia de las directrices recibidas del Director del Plan de Emergencia Exterio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firmar que la totalidad de la población recibe las anteriores comunicacion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1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5651640" y="5013360"/>
            <a:ext cx="1960560" cy="1332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6012000" y="907920"/>
            <a:ext cx="2412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859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Servicio de Orde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ntrolar el estricto cumplimiento de las medidas de protecció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operar en la ejecución de los Avisos a la Población y en el confinamiento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laborar en el mantenimiento del orden y la disciplina en los puntos de concentración para asegurar la mayor fluidez posible en la evacu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Ayudar a mantener la fluidez del tráfico de vehículos dentro del casco urbano, en particular en las vías prioritarias de salida de los vehículos de evacu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laborar en la orientación de lo vehículos foráneos que deban penetrar en el casco urbano para el cumplimiento de su misión en la emergencia, a fin de que puedan llegar con la máxima rapidez a los puntos a que han sido asignado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8360" y="1413000"/>
            <a:ext cx="76420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Servicio de evacuación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stablecer los lugares destinados como puntos de encuentro y de concentración de vehículo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nalizar los medios disponibles para la evacuación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Vehículos particular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3240" indent="-270000">
              <a:lnSpc>
                <a:spcPct val="80000"/>
              </a:lnSpc>
              <a:spcBef>
                <a:spcPts val="451"/>
              </a:spcBef>
              <a:buClr>
                <a:srgbClr val="fe863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Vehículos municipal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Indicar al director del PAMEN la necesidad de vehículos para la evacuación, en caso necesario para su solicitud al director del PEN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segurar el orden de prioridades, evitando atascos y retrasos en el movimiento de vehículo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Determinar que vehículos han de acudir a cada punto de encuentr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las tarjetas de evacuación,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Establecer en colaboración con el grupo sanitario,  las medidas oportunas para la evacuación de las personas que por su estado físico necesiten cuidados o medios especiales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1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SERVICIO SANITARI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Mantener la comunicación con el jefe del Grupo Sanitario del Plan Exterior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Colaborar con el Director del PAMEN asesorándole e informándole de las actuaciones de su Servicio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stablecer la organización del Servicio dentro de este Plan, proponiendo a sus colaboradores y definiendo sus actividades, para lograr una asistencia sanitaria adecuada a la población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 laborar la relación de personas que necesit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transporte especial para su evacuación, el tipo de transporte requerido y sus domicilios para una rápida localización y ponerlo en conocimiento del Director del PAMEN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Aplicar la medida de profilaxi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5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68000" y="14130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Century Schoolbook"/>
              </a:rPr>
              <a:t>SERVICIO DE ABASTECIMIENTO Y ALBERGUE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Conocer y mantener actualizada las necesidades de la población confinada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Establecer e identificar los lugares de albergue para población transeúnte.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Conocer todos los puntos de aprovisionamiento existentes en el Término Municipal, y solicitar de ellos, previa aprobación del Alcalde, los elementos que sean necesarios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Satisfacer las necesidades en la medida de sus recursos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Solicitar al CECOP, todos los recursos que sean necesarios para la población y que no puedan ser provistos dentro del Término Municipal, para su inmediata obtención por el Grupo de Apoyo Logístico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Distribuir entre la población confinada los recursos necesarios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Utilizar, si fuera necesario, los lugares de albergue previamente seleccionados, en que han de confinarse las personas en tránsito  por el área afectada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9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39640" y="1984320"/>
            <a:ext cx="74678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PLANES DE ACTUACIÓN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575f6d"/>
                </a:solidFill>
                <a:latin typeface="Century Schoolbook"/>
              </a:rPr>
              <a:t>MUNICIPAL EN EMERGENCIA NUCLEAR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ENTRO DE COORDINACIÓN OPERATIVA MUNICIP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68000" y="213372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ECOPAL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s el puesto de mando municipal, el lugar físico desde el que se dirige y coordina la organización de la respuesta municipa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ará ubicado preferentemente en el Ayuntamiento y en él se concentra la información necesaria para la ejecución de las medidas de protección que correspondan al municipio y sean ordenadas por el CECOP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3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Picture 5" descr="escudo"/>
          <p:cNvPicPr/>
          <p:nvPr/>
        </p:nvPicPr>
        <p:blipFill>
          <a:blip r:embed="rId1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pic>
        <p:nvPicPr>
          <p:cNvPr id="448" name="4 Imagen" descr="logo_gobe_mir_sub_dgpce.gif"/>
          <p:cNvPicPr/>
          <p:nvPr/>
        </p:nvPicPr>
        <p:blipFill>
          <a:blip r:embed="rId2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449" name="5 Rectángulo" descr=""/>
          <p:cNvPicPr/>
          <p:nvPr/>
        </p:nvPicPr>
        <p:blipFill>
          <a:blip r:embed="rId3"/>
          <a:stretch/>
        </p:blipFill>
        <p:spPr>
          <a:xfrm>
            <a:off x="781200" y="2371680"/>
            <a:ext cx="7650000" cy="2687760"/>
          </a:xfrm>
          <a:prstGeom prst="rect">
            <a:avLst/>
          </a:prstGeom>
          <a:ln w="0">
            <a:noFill/>
          </a:ln>
        </p:spPr>
      </p:pic>
      <p:sp>
        <p:nvSpPr>
          <p:cNvPr id="450" name="6 CuadroTexto"/>
          <p:cNvSpPr/>
          <p:nvPr/>
        </p:nvSpPr>
        <p:spPr>
          <a:xfrm>
            <a:off x="2268360" y="4869000"/>
            <a:ext cx="37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Schoolbook"/>
              </a:rPr>
              <a:t>mgarcia@procivil.mir.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TENID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8360" y="1984320"/>
            <a:ext cx="7704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LAN DE ACTUACIÓN MUNICIP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FUNCIONES A DESARROLLAR POR LAS ORGANIZACIONE S DE LOS PAMENES ZONA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TENIDO DE LOS PAME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PLAN DE ACTUACIÓN MUNICIPAL (PAMEN)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68360" y="1341000"/>
            <a:ext cx="7858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 un instrumento para asegurar la puesta en práctica, de manera ordenada y eficaz, de todas las actuaciones necesarias para la aplicación de las medidas ordenadas por el Director del Plan de Emergencia Exterior, en el ámbito geográfico municipal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Objetiv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 Evitar, o al menos, reducir en lo posible los efectos adversos de las radiaciones ionizantes sobre la población, en caso de accidente nucle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600" spc="-1" strike="noStrike">
                <a:solidFill>
                  <a:srgbClr val="000000"/>
                </a:solidFill>
                <a:latin typeface="Century Schoolbook"/>
                <a:ea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TIPOS DE ORGANIZACIONES MUNICIP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5" name="3 Marcador de contenido" descr=""/>
          <p:cNvPicPr/>
          <p:nvPr/>
        </p:nvPicPr>
        <p:blipFill>
          <a:blip r:embed="rId1"/>
          <a:stretch/>
        </p:blipFill>
        <p:spPr>
          <a:xfrm>
            <a:off x="450720" y="1407960"/>
            <a:ext cx="7504200" cy="4883400"/>
          </a:xfrm>
          <a:prstGeom prst="rect">
            <a:avLst/>
          </a:prstGeom>
          <a:ln w="0">
            <a:noFill/>
          </a:ln>
        </p:spPr>
      </p:pic>
      <p:pic>
        <p:nvPicPr>
          <p:cNvPr id="376" name="4 Imagen" descr="logo_gobe_mir_sub_dgpce.gif"/>
          <p:cNvPicPr/>
          <p:nvPr/>
        </p:nvPicPr>
        <p:blipFill>
          <a:blip r:embed="rId2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5" descr="escudo"/>
          <p:cNvPicPr/>
          <p:nvPr/>
        </p:nvPicPr>
        <p:blipFill>
          <a:blip r:embed="rId3"/>
          <a:stretch/>
        </p:blipFill>
        <p:spPr>
          <a:xfrm>
            <a:off x="8172360" y="0"/>
            <a:ext cx="478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TIPOS DE ORGANIZACIONES MUNICIP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07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Zona I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Los que tiene todo o parte de su término municipal habitado en Zona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Zona II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 Los que tiene todo o parte de su termino municipal habitado en Zona II y no son municipios Zona I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sede de Estaciones de Clasificación y Descontaminación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(ECD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Municipios sede de Áreas Base de Recepción soci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TIPOS DE ORGANIZACIONES MUNICIPAL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57200" y="1600200"/>
          <a:ext cx="7467480" cy="378000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  <a:gridCol w="1244520"/>
                <a:gridCol w="1244520"/>
                <a:gridCol w="124452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ZONA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ZONA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C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AB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B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ta. María de Garoñ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mar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ril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 EATI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3 +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51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osé Cabr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9 +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c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Vandelló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+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0+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N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fr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6ddf1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f8"/>
                    </a:solidFill>
                  </a:tcPr>
                </a:tc>
              </a:tr>
            </a:tbl>
          </a:graphicData>
        </a:graphic>
      </p:graphicFrame>
      <p:pic>
        <p:nvPicPr>
          <p:cNvPr id="384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escudo"/>
          <p:cNvPicPr/>
          <p:nvPr/>
        </p:nvPicPr>
        <p:blipFill>
          <a:blip r:embed="rId2"/>
          <a:stretch/>
        </p:blipFill>
        <p:spPr>
          <a:xfrm>
            <a:off x="8172360" y="0"/>
            <a:ext cx="4780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 DE LAS ORGANIZACIONES DE LOS PAMENES ZONA 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6840" y="1599840"/>
            <a:ext cx="74674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En situación  de emergenci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Alertar, informar y dar avisos a la població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el confinamiento y el abastecimiento a la población confinad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la distribución de la sustancias para la profilaxis radiológic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Facilitar la evacuación de la población, en caso necesario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Transmitir, recibir y registrar las comunicaciones durante la emergencia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Schoolbook"/>
              </a:rPr>
              <a:t>Colaborar con los servicios de los grupos operativos en la aplicación de las medidas de protección a la población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250"/>
              </a:spcBef>
              <a:buClr>
                <a:srgbClr val="fe8637"/>
              </a:buClr>
              <a:buSzPct val="7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8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FUNCIONES DE LAS ORGANIZACIONES DE LOS PAMENES ZONA I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6840" y="1599840"/>
            <a:ext cx="74674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entury Schoolbook"/>
              </a:rPr>
              <a:t>En situación  de normalidad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Elaboración/actualización</a:t>
            </a:r>
            <a:r>
              <a:rPr b="1" lang="es-ES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del Pla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Facilitar la puesta en práctica de programas de información previa, de carácter preventivo a la població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Procurar la adecuada formación del personal integrado en la organización del PAMEN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Realizar ejercicios y simulacros periódicos que permitan mejorar la instrucción del personal adscrito a la organización del PAMEN, comprobar la idoneidad y el estado funcional de los medios a disposición para emergencias,  verificar el grado de operatividad del plan  y derivar de todo ello las medidas de mejora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Fomentar y facilitar la participación ciudadana  en las actividades anteriormente enunciadas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Mantener la operatividad medios materiales asignados al PAMEN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spcBef>
                <a:spcPts val="1063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5760" indent="-455760">
              <a:lnSpc>
                <a:spcPct val="90000"/>
              </a:lnSpc>
              <a:spcBef>
                <a:spcPts val="425"/>
              </a:spcBef>
              <a:buClr>
                <a:srgbClr val="fe8637"/>
              </a:buClr>
              <a:buSzPct val="80000"/>
              <a:buFont typeface="Century Schoolboo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4 Imagen" descr="logo_gobe_mir_sub_dgpce.gif"/>
          <p:cNvPicPr/>
          <p:nvPr/>
        </p:nvPicPr>
        <p:blipFill>
          <a:blip r:embed="rId1"/>
          <a:stretch/>
        </p:blipFill>
        <p:spPr>
          <a:xfrm>
            <a:off x="0" y="0"/>
            <a:ext cx="3330720" cy="4572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15:32:43Z</dcterms:created>
  <dc:creator>mgarcia</dc:creator>
  <dc:description/>
  <dc:language>en-US</dc:language>
  <cp:lastModifiedBy>mgarcia</cp:lastModifiedBy>
  <dcterms:modified xsi:type="dcterms:W3CDTF">2015-10-19T07:05:09Z</dcterms:modified>
  <cp:revision>177</cp:revision>
  <dc:subject/>
  <dc:title>JORNADA TÉCNICA  SOBRE PLANES MUNICIPALES DE EMERGENCIA NUCLEAR PARA  AUTORIDADES MUNICIPALES DE ZONA I DE LOS PEN</dc:title>
</cp:coreProperties>
</file>